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5.png" ContentType="image/png"/>
  <Override PartName="/ppt/media/image10.jpeg" ContentType="image/jpeg"/>
  <Override PartName="/ppt/media/image14.jpeg" ContentType="image/jpeg"/>
  <Override PartName="/ppt/media/image8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739-00DC-4FF8-8C07-2ECCD2CDC7B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れから、お年寄りクイズを始め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を始める前に、グループで情報をシェアしましょう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DBA-BAFB-4501-95B3-5567D359847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４～５は、国旗を使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国旗を準備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271-C373-41D1-B060-FDD622865D8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キャンプに来ている国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日本、オーストラリア、中国、インドネシア、韓国、マレーシア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ベトナム、タ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ヶ国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EF1-1BE5-46E6-8065-7B68855C9168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の中で、おとしよりがいちばん多い国は・・・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日本でした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2A0-AAF5-4DAE-8B19-1CFF1889A0C8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４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それでは、この中で、おとしより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に多い国はどこです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FFB-5E0F-4A47-8862-97649F86A9F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５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の中で、おとしよりが３番目に多い国はどこです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332-DDC6-46FC-888E-2070B1A236F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のキャンプにきている国のランキングを見てみましょ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日本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、オーストラリア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、韓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・・・・タイ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・・・・中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・・・・ベトナ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・・・・マレーシ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位は・・・・インドネシア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22A-DCD0-4724-896D-4A5EC4D084F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世界の中でのランキングは、つぎのとおり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BC04-7FB5-4FE2-8735-38A47FCFB4F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つぎのクイ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～９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,b,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を使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準備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F9A-2E6E-460D-A7F3-3DAE07B596A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６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1D4-BA93-4FEE-B7F1-46766606EAF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事前課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Ⅱ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②を見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みなさん、インターネットでお年寄りの情報を調べました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4A2C-2339-4E54-AF18-14014E79918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病気ではありませんが、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お年寄りには、ほかにも体の問題があ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80A1-3A20-4F92-AC2C-5C9F14B8FE9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９、それで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に多い問題はどれです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626B-DB79-445D-A69E-1862F6ACE24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れから、お年寄りクイズを始め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みなさん、国旗がありますか。そし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[a,b,c]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の紙があります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の答えは、グループのみんなで考え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枚、上にあげ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9F3-25BB-4094-A7D5-018291212FE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１、２は、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」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」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」を使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D69-8505-4EFC-9DB6-ABE0C06EA76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7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DAF-A4D7-4573-8B2F-52F15C462B0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Ｃ）・・・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さあ、どれです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C86D-4F82-4B23-8518-32D2975FD608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れ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さい以上のお年寄りの人数のパーセントの国別ランキング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はフィンランド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.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はブルガリア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.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・・・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・・・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それで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はどこでしょ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トルコ　ｂ）スイス　ｃ）日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紙に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か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か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を書い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43F-6B11-45F9-829A-CABBC2C5E73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日本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で、おとしより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スイス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.7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、トルコ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.7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で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D9F-4C2C-4D5C-996E-FBCE4527C9D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BD1-BB88-4156-8EE3-AB3DBBDA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39F-E76D-4A59-9ADE-194A310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6BD-9242-44AF-B8B0-2E73C1BA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057-BA30-4D10-A114-815AAD2B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AD5-DA6D-4134-8CB1-EAB3A90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E94-2BA3-4DD6-A28F-5F082C3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6AA-6CA1-49C5-93A5-9265D7AE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E1D-5775-4F5D-9669-13E3B8F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0EE-FB7A-47DE-8AC9-3C97F0E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C2E-D3C2-4485-A9BD-AB688D5B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8F5-40A7-4B36-BE4A-6F89B77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5AB-C773-42E2-93C8-7273E55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18B-3475-4E5B-B8BB-712DE44E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7772400" cy="1469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おとしよりのクイ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9 May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10</a:t>
            </a:r>
            <a:r>
              <a:rPr b="0" lang="ja-JP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：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40-10</a:t>
            </a:r>
            <a:r>
              <a:rPr b="0" lang="ja-JP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：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834240" y="396252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15228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533520" y="398304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1676520" y="3814920"/>
            <a:ext cx="1711080" cy="113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http://www.kroobannok.com/news_pic/p21890191405.jpg"/>
          <p:cNvPicPr/>
          <p:nvPr/>
        </p:nvPicPr>
        <p:blipFill>
          <a:blip r:embed="rId4"/>
          <a:stretch/>
        </p:blipFill>
        <p:spPr>
          <a:xfrm>
            <a:off x="5791320" y="3718080"/>
            <a:ext cx="175104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s://encrypted-tbn1.gstatic.com/images?q=tbn:ANd9GcRjBoPzd_YaxmSKNDfYmLUaLcDD5HQdcQLEXYt2OeNFkPz9DAv4uw"/>
          <p:cNvPicPr/>
          <p:nvPr/>
        </p:nvPicPr>
        <p:blipFill>
          <a:blip r:embed="rId5"/>
          <a:stretch/>
        </p:blipFill>
        <p:spPr>
          <a:xfrm>
            <a:off x="2070000" y="5357880"/>
            <a:ext cx="924120" cy="62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6" descr="http://www.9ddn.com/images/stories/flag/10-China.gif"/>
          <p:cNvPicPr/>
          <p:nvPr/>
        </p:nvPicPr>
        <p:blipFill>
          <a:blip r:embed="rId6"/>
          <a:stretch/>
        </p:blipFill>
        <p:spPr>
          <a:xfrm>
            <a:off x="2916360" y="6162840"/>
            <a:ext cx="936360" cy="6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www.tanabutr.co.th/sites/default/files/images/-1.jpg"/>
          <p:cNvPicPr/>
          <p:nvPr/>
        </p:nvPicPr>
        <p:blipFill>
          <a:blip r:embed="rId7"/>
          <a:stretch/>
        </p:blipFill>
        <p:spPr>
          <a:xfrm>
            <a:off x="6099120" y="6086520"/>
            <a:ext cx="979560" cy="65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33ff.com/flags/XL_flags/Australia_flag.gif"/>
          <p:cNvPicPr/>
          <p:nvPr/>
        </p:nvPicPr>
        <p:blipFill>
          <a:blip r:embed="rId8"/>
          <a:stretch/>
        </p:blipFill>
        <p:spPr>
          <a:xfrm>
            <a:off x="5186520" y="5300640"/>
            <a:ext cx="912600" cy="6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ttp://department.utcc.ac.th/thaiculture/images/asean1.gif"/>
          <p:cNvPicPr/>
          <p:nvPr/>
        </p:nvPicPr>
        <p:blipFill>
          <a:blip r:embed="rId9"/>
          <a:stretch/>
        </p:blipFill>
        <p:spPr>
          <a:xfrm>
            <a:off x="3552840" y="5300640"/>
            <a:ext cx="1011240" cy="677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https://i2.wp.com/hilight.kapook.com/img_cms2/news_6/malaysia.jpg"/>
          <p:cNvPicPr/>
          <p:nvPr/>
        </p:nvPicPr>
        <p:blipFill>
          <a:blip r:embed="rId10"/>
          <a:stretch/>
        </p:blipFill>
        <p:spPr>
          <a:xfrm>
            <a:off x="4718160" y="6162840"/>
            <a:ext cx="9237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7772400" cy="1469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Ｑ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４～５は国旗をつかいます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834240" y="396252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/>
          <p:cNvSpPr/>
          <p:nvPr/>
        </p:nvSpPr>
        <p:spPr>
          <a:xfrm>
            <a:off x="15228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533520" y="3983040"/>
            <a:ext cx="188568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  <a:ea typeface="ＭＳ Ｐゴシック"/>
            </a:endParaRPr>
          </a:p>
        </p:txBody>
      </p:sp>
      <p:pic>
        <p:nvPicPr>
          <p:cNvPr id="119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1676520" y="3962520"/>
            <a:ext cx="1404720" cy="93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http://www.kroobannok.com/news_pic/p21890191405.jpg"/>
          <p:cNvPicPr/>
          <p:nvPr/>
        </p:nvPicPr>
        <p:blipFill>
          <a:blip r:embed="rId4"/>
          <a:stretch/>
        </p:blipFill>
        <p:spPr>
          <a:xfrm>
            <a:off x="6124680" y="3943440"/>
            <a:ext cx="1419120" cy="93348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2"/>
          <p:cNvSpPr/>
          <p:nvPr/>
        </p:nvSpPr>
        <p:spPr>
          <a:xfrm>
            <a:off x="3276720" y="609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こっ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520" y="23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キャンプにきている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611280" y="3394080"/>
            <a:ext cx="1751040" cy="117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6629400" y="1770120"/>
            <a:ext cx="1774800" cy="118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603360" y="182880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3755880" y="328608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3795840" y="185112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1908000" y="5010120"/>
            <a:ext cx="1916280" cy="128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5334120" y="5075280"/>
            <a:ext cx="175104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6629400" y="3430440"/>
            <a:ext cx="175104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ボックス 1"/>
          <p:cNvSpPr/>
          <p:nvPr/>
        </p:nvSpPr>
        <p:spPr>
          <a:xfrm>
            <a:off x="5524560" y="0"/>
            <a:ext cx="19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　　　　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く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520" y="23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おとしよりがいちばん多い国は・・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611280" y="3394080"/>
            <a:ext cx="1751040" cy="1176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6629400" y="1770120"/>
            <a:ext cx="1774800" cy="1182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603360" y="182880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3755880" y="328608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3795840" y="185112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1908000" y="5010120"/>
            <a:ext cx="1916280" cy="128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5334120" y="5075280"/>
            <a:ext cx="175104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6629400" y="3430440"/>
            <a:ext cx="1751040" cy="1168560"/>
          </a:xfrm>
          <a:prstGeom prst="rect">
            <a:avLst/>
          </a:prstGeom>
          <a:ln w="0">
            <a:noFill/>
          </a:ln>
        </p:spPr>
      </p:pic>
      <p:sp>
        <p:nvSpPr>
          <p:cNvPr id="141" name="Oval 10"/>
          <p:cNvSpPr/>
          <p:nvPr/>
        </p:nvSpPr>
        <p:spPr>
          <a:xfrm>
            <a:off x="304920" y="1376280"/>
            <a:ext cx="2344680" cy="201780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3"/>
          <p:cNvSpPr/>
          <p:nvPr/>
        </p:nvSpPr>
        <p:spPr>
          <a:xfrm>
            <a:off x="5613480" y="81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おお　　　　　くに</a:t>
            </a: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85320" y="41724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2</a:t>
            </a: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番目に多い国はどこで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611280" y="3394080"/>
            <a:ext cx="1751040" cy="117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6629400" y="1770120"/>
            <a:ext cx="1774800" cy="1182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603360" y="182880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3755880" y="328608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3795840" y="185112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2203560" y="5116680"/>
            <a:ext cx="1915920" cy="128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5334120" y="5181480"/>
            <a:ext cx="175104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6626160" y="3378240"/>
            <a:ext cx="1751040" cy="1168200"/>
          </a:xfrm>
          <a:prstGeom prst="rect">
            <a:avLst/>
          </a:prstGeom>
          <a:ln w="0">
            <a:noFill/>
          </a:ln>
        </p:spPr>
      </p:pic>
      <p:sp>
        <p:nvSpPr>
          <p:cNvPr id="152" name="Oval 11"/>
          <p:cNvSpPr/>
          <p:nvPr/>
        </p:nvSpPr>
        <p:spPr>
          <a:xfrm>
            <a:off x="3510000" y="1282680"/>
            <a:ext cx="2344680" cy="2017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87200" y="5904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Q</a:t>
            </a:r>
            <a:r>
              <a:rPr b="0" lang="ja-JP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４</a:t>
            </a:r>
            <a:r>
              <a:rPr b="0" lang="en-US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3"/>
          <p:cNvSpPr/>
          <p:nvPr/>
        </p:nvSpPr>
        <p:spPr>
          <a:xfrm>
            <a:off x="1865160" y="1285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ばんめ　　　おお　　　くに</a:t>
            </a:r>
            <a:r>
              <a:rPr b="0" lang="ja-JP" sz="16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5320" y="41724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３番目に多い国はどこで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611280" y="3394080"/>
            <a:ext cx="1751040" cy="1176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6629400" y="1770120"/>
            <a:ext cx="1774800" cy="1182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603360" y="182880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3755880" y="328608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3795840" y="177804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2203560" y="5116680"/>
            <a:ext cx="1915920" cy="128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5334120" y="5181480"/>
            <a:ext cx="175104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6626160" y="3378240"/>
            <a:ext cx="1751040" cy="1168200"/>
          </a:xfrm>
          <a:prstGeom prst="rect">
            <a:avLst/>
          </a:prstGeom>
          <a:ln w="0">
            <a:noFill/>
          </a:ln>
        </p:spPr>
      </p:pic>
      <p:sp>
        <p:nvSpPr>
          <p:cNvPr id="164" name="Oval 11"/>
          <p:cNvSpPr/>
          <p:nvPr/>
        </p:nvSpPr>
        <p:spPr>
          <a:xfrm>
            <a:off x="3510000" y="2894040"/>
            <a:ext cx="2344680" cy="2017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87200" y="5904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Q</a:t>
            </a:r>
            <a:r>
              <a:rPr b="0" lang="ja-JP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５</a:t>
            </a:r>
            <a:r>
              <a:rPr b="0" lang="en-US" sz="4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3"/>
          <p:cNvSpPr/>
          <p:nvPr/>
        </p:nvSpPr>
        <p:spPr>
          <a:xfrm>
            <a:off x="1865160" y="1285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ばんめ　　　おお　　　くに</a:t>
            </a:r>
            <a:r>
              <a:rPr b="0" lang="ja-JP" sz="16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47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のキャンプの国ランキン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611280" y="3394080"/>
            <a:ext cx="17510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6629400" y="1770120"/>
            <a:ext cx="1774800" cy="1182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603360" y="182880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3755880" y="328608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3795840" y="185112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1839960" y="5083200"/>
            <a:ext cx="1915920" cy="1282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5091120" y="5083200"/>
            <a:ext cx="1949400" cy="1282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6629400" y="3436920"/>
            <a:ext cx="1751040" cy="1168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666880" y="205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5624640" y="205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5727600" y="36417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7010280" y="5419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8415360" y="21225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3803760" y="54626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8415360" y="37209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2666880" y="3726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20"/>
          <p:cNvSpPr/>
          <p:nvPr/>
        </p:nvSpPr>
        <p:spPr>
          <a:xfrm>
            <a:off x="4865760" y="417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くに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https://encrypted-tbn1.gstatic.com/images?q=tbn:ANd9GcRjBoPzd_YaxmSKNDfYmLUaLcDD5HQdcQLEXYt2OeNFkPz9DAv4uw"/>
          <p:cNvPicPr/>
          <p:nvPr/>
        </p:nvPicPr>
        <p:blipFill>
          <a:blip r:embed="rId1"/>
          <a:stretch/>
        </p:blipFill>
        <p:spPr>
          <a:xfrm>
            <a:off x="5800680" y="4046400"/>
            <a:ext cx="1090800" cy="7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6" descr="http://www.9ddn.com/images/stories/flag/10-China.gif"/>
          <p:cNvPicPr/>
          <p:nvPr/>
        </p:nvPicPr>
        <p:blipFill>
          <a:blip r:embed="rId2"/>
          <a:stretch/>
        </p:blipFill>
        <p:spPr>
          <a:xfrm>
            <a:off x="1420920" y="5529240"/>
            <a:ext cx="1042920" cy="693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1424160" y="1663560"/>
            <a:ext cx="1112760" cy="74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tanabutr.co.th/sites/default/files/images/-1.jpg"/>
          <p:cNvPicPr/>
          <p:nvPr/>
        </p:nvPicPr>
        <p:blipFill>
          <a:blip r:embed="rId4"/>
          <a:stretch/>
        </p:blipFill>
        <p:spPr>
          <a:xfrm>
            <a:off x="1427040" y="3448080"/>
            <a:ext cx="1036800" cy="689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33ff.com/flags/XL_flags/Australia_flag.gif"/>
          <p:cNvPicPr/>
          <p:nvPr/>
        </p:nvPicPr>
        <p:blipFill>
          <a:blip r:embed="rId5"/>
          <a:stretch/>
        </p:blipFill>
        <p:spPr>
          <a:xfrm>
            <a:off x="1424160" y="2606760"/>
            <a:ext cx="1042920" cy="696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http://department.utcc.ac.th/thaiculture/images/asean1.gif"/>
          <p:cNvPicPr/>
          <p:nvPr/>
        </p:nvPicPr>
        <p:blipFill>
          <a:blip r:embed="rId6"/>
          <a:stretch/>
        </p:blipFill>
        <p:spPr>
          <a:xfrm>
            <a:off x="5803920" y="1654200"/>
            <a:ext cx="1087560" cy="72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http://www.kroobannok.com/news_pic/p21890191405.jpg"/>
          <p:cNvPicPr/>
          <p:nvPr/>
        </p:nvPicPr>
        <p:blipFill>
          <a:blip r:embed="rId7"/>
          <a:stretch/>
        </p:blipFill>
        <p:spPr>
          <a:xfrm>
            <a:off x="1424160" y="4476600"/>
            <a:ext cx="103968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https://i2.wp.com/hilight.kapook.com/img_cms2/news_6/malaysia.jpg"/>
          <p:cNvPicPr/>
          <p:nvPr/>
        </p:nvPicPr>
        <p:blipFill>
          <a:blip r:embed="rId8"/>
          <a:stretch/>
        </p:blipFill>
        <p:spPr>
          <a:xfrm>
            <a:off x="5800680" y="2765520"/>
            <a:ext cx="1022400" cy="682560"/>
          </a:xfrm>
          <a:prstGeom prst="rect">
            <a:avLst/>
          </a:prstGeom>
          <a:ln w="0">
            <a:noFill/>
          </a:ln>
        </p:spPr>
      </p:pic>
      <p:sp>
        <p:nvSpPr>
          <p:cNvPr id="193" name="Title 1"/>
          <p:cNvSpPr/>
          <p:nvPr/>
        </p:nvSpPr>
        <p:spPr>
          <a:xfrm>
            <a:off x="611280" y="290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世界の国ランキ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3027240" y="16113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2975040" y="2546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2975040" y="33670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019320" y="4476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2989440" y="55371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7445520" y="16113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7162920" y="27147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7203960" y="3992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203800" y="6254640"/>
            <a:ext cx="34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Population Ageing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ed Nations • New York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3"/>
          <p:cNvSpPr/>
          <p:nvPr/>
        </p:nvSpPr>
        <p:spPr>
          <a:xfrm>
            <a:off x="2467080" y="246240"/>
            <a:ext cx="26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せ　　かい　　　　　　くに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7772400" cy="1469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イズ６～９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,b,c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をつかいます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834240" y="396252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207" name="正方形/長方形 3"/>
          <p:cNvSpPr/>
          <p:nvPr/>
        </p:nvSpPr>
        <p:spPr>
          <a:xfrm>
            <a:off x="5943600" y="3733920"/>
            <a:ext cx="1600200" cy="12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5228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533520" y="3983040"/>
            <a:ext cx="1885680" cy="2428920"/>
          </a:xfrm>
          <a:prstGeom prst="rect">
            <a:avLst/>
          </a:prstGeom>
          <a:ln w="0">
            <a:noFill/>
          </a:ln>
        </p:spPr>
      </p:pic>
      <p:sp>
        <p:nvSpPr>
          <p:cNvPr id="210" name="正方形/長方形 9"/>
          <p:cNvSpPr/>
          <p:nvPr/>
        </p:nvSpPr>
        <p:spPr>
          <a:xfrm>
            <a:off x="1619280" y="3809880"/>
            <a:ext cx="1600200" cy="121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7840" y="46476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Q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６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.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日本のおとしよりはだれと</a:t>
            </a:r>
            <a:br>
              <a:rPr sz="4400"/>
            </a:b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いっしょに住ん でいますか。</a:t>
            </a:r>
            <a:br>
              <a:rPr sz="4400"/>
            </a:b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いちばん多い のはどれで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9" descr="1-3-11"/>
          <p:cNvPicPr/>
          <p:nvPr/>
        </p:nvPicPr>
        <p:blipFill>
          <a:blip r:embed="rId1"/>
          <a:stretch/>
        </p:blipFill>
        <p:spPr>
          <a:xfrm>
            <a:off x="6494400" y="3343320"/>
            <a:ext cx="2286000" cy="169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" descr="1-3-8"/>
          <p:cNvPicPr/>
          <p:nvPr/>
        </p:nvPicPr>
        <p:blipFill>
          <a:blip r:embed="rId2"/>
          <a:stretch/>
        </p:blipFill>
        <p:spPr>
          <a:xfrm>
            <a:off x="3255840" y="3535200"/>
            <a:ext cx="1981440" cy="1851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1" descr="1-3-9"/>
          <p:cNvPicPr/>
          <p:nvPr/>
        </p:nvPicPr>
        <p:blipFill>
          <a:blip r:embed="rId3"/>
          <a:stretch/>
        </p:blipFill>
        <p:spPr>
          <a:xfrm>
            <a:off x="398520" y="3648240"/>
            <a:ext cx="1905120" cy="1823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169920" y="5951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a)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一人くら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2992320" y="594216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b)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ふうふ二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5819760" y="5307120"/>
            <a:ext cx="3324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c)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どものかぞ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 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といっし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2819520" y="5904000"/>
            <a:ext cx="11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12"/>
          <p:cNvSpPr/>
          <p:nvPr/>
        </p:nvSpPr>
        <p:spPr>
          <a:xfrm>
            <a:off x="3670200" y="10666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12"/>
          <p:cNvSpPr/>
          <p:nvPr/>
        </p:nvSpPr>
        <p:spPr>
          <a:xfrm>
            <a:off x="846000" y="4968720"/>
            <a:ext cx="16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ひと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12"/>
          <p:cNvSpPr/>
          <p:nvPr/>
        </p:nvSpPr>
        <p:spPr>
          <a:xfrm>
            <a:off x="4510080" y="55958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ふた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12"/>
          <p:cNvSpPr/>
          <p:nvPr/>
        </p:nvSpPr>
        <p:spPr>
          <a:xfrm>
            <a:off x="2970360" y="20574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お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7200" y="2808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Q</a:t>
            </a:r>
            <a:r>
              <a:rPr b="0" lang="ja-JP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７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.</a:t>
            </a:r>
            <a:r>
              <a:rPr b="0" lang="ja-JP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タイのおとしよりが暇なとき</a:t>
            </a:r>
            <a:br>
              <a:rPr sz="4000"/>
            </a:br>
            <a:r>
              <a:rPr b="0" lang="ja-JP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　　　何をしますか。</a:t>
            </a:r>
            <a:br>
              <a:rPr sz="4000"/>
            </a:br>
            <a:r>
              <a:rPr b="0" lang="ja-JP" sz="40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　　いちばん多い のはどれです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5"/>
          <p:cNvSpPr/>
          <p:nvPr/>
        </p:nvSpPr>
        <p:spPr>
          <a:xfrm>
            <a:off x="127080" y="3308400"/>
            <a:ext cx="609480" cy="685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12"/>
          <p:cNvSpPr/>
          <p:nvPr/>
        </p:nvSpPr>
        <p:spPr>
          <a:xfrm>
            <a:off x="4816440" y="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</a:t>
            </a: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ひ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6496200" y="3278160"/>
            <a:ext cx="1560240" cy="1055880"/>
          </a:xfrm>
          <a:prstGeom prst="rect">
            <a:avLst/>
          </a:prstGeom>
          <a:ln w="0">
            <a:noFill/>
          </a:ln>
        </p:spPr>
      </p:pic>
      <p:sp>
        <p:nvSpPr>
          <p:cNvPr id="228" name="テキスト ボックス 12"/>
          <p:cNvSpPr/>
          <p:nvPr/>
        </p:nvSpPr>
        <p:spPr>
          <a:xfrm>
            <a:off x="201600" y="4213080"/>
            <a:ext cx="4654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)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レビを見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2"/>
          <p:cNvSpPr/>
          <p:nvPr/>
        </p:nvSpPr>
        <p:spPr>
          <a:xfrm>
            <a:off x="-870120" y="3267000"/>
            <a:ext cx="57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)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ごろごろし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正方形/長方形 3"/>
          <p:cNvSpPr/>
          <p:nvPr/>
        </p:nvSpPr>
        <p:spPr>
          <a:xfrm>
            <a:off x="1662480" y="5576760"/>
            <a:ext cx="1250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ほ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)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をよみ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12"/>
          <p:cNvSpPr/>
          <p:nvPr/>
        </p:nvSpPr>
        <p:spPr>
          <a:xfrm>
            <a:off x="2666880" y="17524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　お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2"/>
          <a:stretch/>
        </p:blipFill>
        <p:spPr>
          <a:xfrm>
            <a:off x="6734160" y="4660920"/>
            <a:ext cx="974880" cy="852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14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"/>
          <p:cNvPicPr/>
          <p:nvPr/>
        </p:nvPicPr>
        <p:blipFill>
          <a:blip r:embed="rId3"/>
          <a:stretch/>
        </p:blipFill>
        <p:spPr>
          <a:xfrm>
            <a:off x="6837480" y="5754600"/>
            <a:ext cx="826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じぜんかだい</a:t>
            </a:r>
            <a:br>
              <a:rPr sz="36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事前課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re-task)Ⅱ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86000" y="1744560"/>
            <a:ext cx="434340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49200"/>
            <a:ext cx="8991720" cy="17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Ｑ８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.</a:t>
            </a: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次の病気の中でおとしよりに</a:t>
            </a:r>
            <a:br>
              <a:rPr sz="800"/>
            </a:br>
            <a:br>
              <a:rPr sz="800"/>
            </a:b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いちばん多い病気はどれで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s://t.pimg.jp/009/691/814/1/9691814.jpg"/>
          <p:cNvPicPr/>
          <p:nvPr/>
        </p:nvPicPr>
        <p:blipFill>
          <a:blip r:embed="rId1"/>
          <a:srcRect l="0" t="0" r="0" b="5298"/>
          <a:stretch/>
        </p:blipFill>
        <p:spPr>
          <a:xfrm>
            <a:off x="3365640" y="4114800"/>
            <a:ext cx="2565360" cy="252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ttp://www.civillink.net/fsozai/sozai/sinzo6.gif"/>
          <p:cNvPicPr/>
          <p:nvPr/>
        </p:nvPicPr>
        <p:blipFill>
          <a:blip r:embed="rId2"/>
          <a:stretch/>
        </p:blipFill>
        <p:spPr>
          <a:xfrm>
            <a:off x="6297480" y="4853160"/>
            <a:ext cx="2465640" cy="17794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85680" y="3344760"/>
            <a:ext cx="311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関節・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3201840" y="3367080"/>
            <a:ext cx="290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呼吸器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https://t.pimg.jp/003/404/592/1/3404592.jpg"/>
          <p:cNvPicPr/>
          <p:nvPr/>
        </p:nvPicPr>
        <p:blipFill>
          <a:blip r:embed="rId3"/>
          <a:srcRect l="13338" t="10671" r="8450" b="11501"/>
          <a:stretch/>
        </p:blipFill>
        <p:spPr>
          <a:xfrm>
            <a:off x="388800" y="4356000"/>
            <a:ext cx="2441880" cy="23846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3"/>
          <p:cNvSpPr/>
          <p:nvPr/>
        </p:nvSpPr>
        <p:spPr>
          <a:xfrm>
            <a:off x="6400800" y="3344760"/>
            <a:ext cx="28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心臓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58104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んせつ　　ほ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3840120" y="30481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こきゅうきけ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6858000" y="30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しんぞうけ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0" y="3495600"/>
            <a:ext cx="649440" cy="538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12"/>
          <p:cNvSpPr/>
          <p:nvPr/>
        </p:nvSpPr>
        <p:spPr>
          <a:xfrm>
            <a:off x="26668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びょうき　　　な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18"/>
          <p:cNvSpPr/>
          <p:nvPr/>
        </p:nvSpPr>
        <p:spPr>
          <a:xfrm>
            <a:off x="2666880" y="122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おお　　びょ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体の問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42640" y="4343400"/>
            <a:ext cx="7010280" cy="990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目が見えない</a:t>
            </a:r>
            <a:r>
              <a:rPr b="0" lang="ja-JP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とです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tle 1"/>
          <p:cNvSpPr/>
          <p:nvPr/>
        </p:nvSpPr>
        <p:spPr>
          <a:xfrm>
            <a:off x="533520" y="2971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の問題は・・・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8"/>
          <p:cNvSpPr/>
          <p:nvPr/>
        </p:nvSpPr>
        <p:spPr>
          <a:xfrm>
            <a:off x="874800" y="2514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ばん　　　もんだ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17"/>
          <p:cNvSpPr/>
          <p:nvPr/>
        </p:nvSpPr>
        <p:spPr>
          <a:xfrm>
            <a:off x="533520" y="609480"/>
            <a:ext cx="27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だ　　もんだ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Ｑ９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.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　</a:t>
            </a:r>
            <a:r>
              <a:rPr b="0" lang="ja-JP" sz="44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２番目の問題はどれで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281520" y="2190600"/>
            <a:ext cx="762012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)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耳があまり聞こえない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円/楕円 3"/>
          <p:cNvSpPr/>
          <p:nvPr/>
        </p:nvSpPr>
        <p:spPr>
          <a:xfrm>
            <a:off x="184320" y="4329000"/>
            <a:ext cx="609480" cy="685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8"/>
          <p:cNvSpPr/>
          <p:nvPr/>
        </p:nvSpPr>
        <p:spPr>
          <a:xfrm>
            <a:off x="3914640" y="5284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もんだ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9"/>
          <p:cNvSpPr/>
          <p:nvPr/>
        </p:nvSpPr>
        <p:spPr>
          <a:xfrm>
            <a:off x="2209680" y="53352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ばん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17"/>
          <p:cNvSpPr/>
          <p:nvPr/>
        </p:nvSpPr>
        <p:spPr>
          <a:xfrm>
            <a:off x="793800" y="22939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みみ　　　　　　　　　　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-760320" y="3773520"/>
            <a:ext cx="7619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)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トイレによく行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0" y="5145120"/>
            <a:ext cx="460224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)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よくころ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7772400" cy="1469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おとしよりのクイ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7636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9 May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10</a:t>
            </a:r>
            <a:r>
              <a:rPr b="0" lang="ja-JP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：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40-10</a:t>
            </a:r>
            <a:r>
              <a:rPr b="0" lang="ja-JP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：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6834240" y="396252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8"/>
          <p:cNvSpPr/>
          <p:nvPr/>
        </p:nvSpPr>
        <p:spPr>
          <a:xfrm>
            <a:off x="15228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533520" y="398304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japantown.info/assets/images/89/1389340890-82897.png"/>
          <p:cNvPicPr/>
          <p:nvPr/>
        </p:nvPicPr>
        <p:blipFill>
          <a:blip r:embed="rId3"/>
          <a:stretch/>
        </p:blipFill>
        <p:spPr>
          <a:xfrm>
            <a:off x="1676520" y="3814920"/>
            <a:ext cx="1711080" cy="113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http://www.kroobannok.com/news_pic/p21890191405.jpg"/>
          <p:cNvPicPr/>
          <p:nvPr/>
        </p:nvPicPr>
        <p:blipFill>
          <a:blip r:embed="rId4"/>
          <a:stretch/>
        </p:blipFill>
        <p:spPr>
          <a:xfrm>
            <a:off x="5791320" y="3718080"/>
            <a:ext cx="175104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s://encrypted-tbn1.gstatic.com/images?q=tbn:ANd9GcRjBoPzd_YaxmSKNDfYmLUaLcDD5HQdcQLEXYt2OeNFkPz9DAv4uw"/>
          <p:cNvPicPr/>
          <p:nvPr/>
        </p:nvPicPr>
        <p:blipFill>
          <a:blip r:embed="rId5"/>
          <a:stretch/>
        </p:blipFill>
        <p:spPr>
          <a:xfrm>
            <a:off x="2070000" y="5357880"/>
            <a:ext cx="924120" cy="62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6" descr="http://www.9ddn.com/images/stories/flag/10-China.gif"/>
          <p:cNvPicPr/>
          <p:nvPr/>
        </p:nvPicPr>
        <p:blipFill>
          <a:blip r:embed="rId6"/>
          <a:stretch/>
        </p:blipFill>
        <p:spPr>
          <a:xfrm>
            <a:off x="2916360" y="6162840"/>
            <a:ext cx="936360" cy="6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www.tanabutr.co.th/sites/default/files/images/-1.jpg"/>
          <p:cNvPicPr/>
          <p:nvPr/>
        </p:nvPicPr>
        <p:blipFill>
          <a:blip r:embed="rId7"/>
          <a:stretch/>
        </p:blipFill>
        <p:spPr>
          <a:xfrm>
            <a:off x="6099120" y="6086520"/>
            <a:ext cx="979560" cy="65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http://www.33ff.com/flags/XL_flags/Australia_flag.gif"/>
          <p:cNvPicPr/>
          <p:nvPr/>
        </p:nvPicPr>
        <p:blipFill>
          <a:blip r:embed="rId8"/>
          <a:stretch/>
        </p:blipFill>
        <p:spPr>
          <a:xfrm>
            <a:off x="5186520" y="5300640"/>
            <a:ext cx="912600" cy="608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http://department.utcc.ac.th/thaiculture/images/asean1.gif"/>
          <p:cNvPicPr/>
          <p:nvPr/>
        </p:nvPicPr>
        <p:blipFill>
          <a:blip r:embed="rId9"/>
          <a:stretch/>
        </p:blipFill>
        <p:spPr>
          <a:xfrm>
            <a:off x="3552840" y="5300640"/>
            <a:ext cx="1011240" cy="67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https://i2.wp.com/hilight.kapook.com/img_cms2/news_6/malaysia.jpg"/>
          <p:cNvPicPr/>
          <p:nvPr/>
        </p:nvPicPr>
        <p:blipFill>
          <a:blip r:embed="rId10"/>
          <a:stretch/>
        </p:blipFill>
        <p:spPr>
          <a:xfrm>
            <a:off x="4718160" y="6162840"/>
            <a:ext cx="9237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60160"/>
            <a:ext cx="7772400" cy="1469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Ｑ．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,b,c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をつかいます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6834240" y="396252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8"/>
          <p:cNvSpPr/>
          <p:nvPr/>
        </p:nvSpPr>
        <p:spPr>
          <a:xfrm>
            <a:off x="15228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533520" y="3983040"/>
            <a:ext cx="1885680" cy="2428920"/>
          </a:xfrm>
          <a:prstGeom prst="rect">
            <a:avLst/>
          </a:prstGeom>
          <a:ln w="0">
            <a:noFill/>
          </a:ln>
        </p:spPr>
      </p:pic>
      <p:sp>
        <p:nvSpPr>
          <p:cNvPr id="84" name="正方形/長方形 9"/>
          <p:cNvSpPr/>
          <p:nvPr/>
        </p:nvSpPr>
        <p:spPr>
          <a:xfrm>
            <a:off x="6033960" y="3746520"/>
            <a:ext cx="1600200" cy="12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10"/>
          <p:cNvSpPr/>
          <p:nvPr/>
        </p:nvSpPr>
        <p:spPr>
          <a:xfrm>
            <a:off x="3657600" y="2286000"/>
            <a:ext cx="1600200" cy="12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3"/>
          <p:cNvSpPr/>
          <p:nvPr/>
        </p:nvSpPr>
        <p:spPr>
          <a:xfrm>
            <a:off x="1619280" y="3746520"/>
            <a:ext cx="1600200" cy="12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04560"/>
            <a:ext cx="100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今、世界に人口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フリーのイラストレーターを目指す方の独立応援ブログ"/>
          <p:cNvPicPr/>
          <p:nvPr/>
        </p:nvPicPr>
        <p:blipFill>
          <a:blip r:embed="rId1"/>
          <a:srcRect l="0" t="0" r="0" b="6052"/>
          <a:stretch/>
        </p:blipFill>
        <p:spPr>
          <a:xfrm>
            <a:off x="2819520" y="1328760"/>
            <a:ext cx="3233520" cy="3632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5638680" y="4313160"/>
            <a:ext cx="3117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7"/>
          <p:cNvSpPr/>
          <p:nvPr/>
        </p:nvSpPr>
        <p:spPr>
          <a:xfrm>
            <a:off x="3700440" y="1699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せ　かい　　　　　　じん　　こう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762120" y="4648320"/>
            <a:ext cx="802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に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,200,000,00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ぐらいい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おく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04920" y="306000"/>
            <a:ext cx="100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Q1. 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おとしよりは世界に何人います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35812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ordia New"/>
              </a:rPr>
              <a:t>a)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360,000,000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（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）ぐらい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ordia New"/>
              </a:rPr>
              <a:t>b)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792,000,000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（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）ぐらい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ordia New"/>
              </a:rPr>
              <a:t>c)1,440,000,000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（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）ぐら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http://kids.wanpug.com/illust/illust2204.png"/>
          <p:cNvPicPr/>
          <p:nvPr/>
        </p:nvPicPr>
        <p:blipFill>
          <a:blip r:embed="rId1"/>
          <a:stretch/>
        </p:blipFill>
        <p:spPr>
          <a:xfrm>
            <a:off x="2714760" y="1371600"/>
            <a:ext cx="290988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7"/>
          <p:cNvSpPr/>
          <p:nvPr/>
        </p:nvSpPr>
        <p:spPr>
          <a:xfrm>
            <a:off x="4038480" y="76320"/>
            <a:ext cx="31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せかい　　　　なんにん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152280" y="4572000"/>
            <a:ext cx="762120" cy="7095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2962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Q2. 2050</a:t>
            </a:r>
            <a:r>
              <a:rPr b="0" lang="ja-JP" sz="48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年のおとしよりの人口は</a:t>
            </a:r>
            <a:br>
              <a:rPr sz="4800"/>
            </a:br>
            <a:r>
              <a:rPr b="0" lang="ja-JP" sz="48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何パーセントだと思います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66880"/>
            <a:ext cx="5029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)15%</a:t>
            </a:r>
            <a:r>
              <a:rPr b="0" lang="ja-JP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ぐら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)22%</a:t>
            </a:r>
            <a:r>
              <a:rPr b="0" lang="ja-JP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ぐら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)33%</a:t>
            </a:r>
            <a:r>
              <a:rPr b="0" lang="ja-JP" sz="6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ぐら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http://kids.wanpug.com/illust/illust2204.png"/>
          <p:cNvPicPr/>
          <p:nvPr/>
        </p:nvPicPr>
        <p:blipFill>
          <a:blip r:embed="rId1"/>
          <a:stretch/>
        </p:blipFill>
        <p:spPr>
          <a:xfrm>
            <a:off x="6175440" y="2943360"/>
            <a:ext cx="2511360" cy="1601640"/>
          </a:xfrm>
          <a:prstGeom prst="rect">
            <a:avLst/>
          </a:prstGeom>
          <a:ln w="0">
            <a:noFill/>
          </a:ln>
        </p:spPr>
      </p:pic>
      <p:sp>
        <p:nvSpPr>
          <p:cNvPr id="101" name="Oval 5"/>
          <p:cNvSpPr/>
          <p:nvPr/>
        </p:nvSpPr>
        <p:spPr>
          <a:xfrm>
            <a:off x="192240" y="3962520"/>
            <a:ext cx="1066680" cy="8348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3"/>
          <p:cNvSpPr/>
          <p:nvPr/>
        </p:nvSpPr>
        <p:spPr>
          <a:xfrm>
            <a:off x="2743200" y="3348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ねん　　　　　　　　　　　　　　　　　  じん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3"/>
          <p:cNvSpPr/>
          <p:nvPr/>
        </p:nvSpPr>
        <p:spPr>
          <a:xfrm>
            <a:off x="1001880" y="1379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なん　　　　　　　　　　　　　　　　　　お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636552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６０才以上のお年寄りの人数国ランキング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２０１３年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2249640"/>
          <a:ext cx="5638680" cy="4089240"/>
        </p:xfrm>
        <a:graphic>
          <a:graphicData uri="http://schemas.openxmlformats.org/drawingml/2006/table">
            <a:tbl>
              <a:tblPr/>
              <a:tblGrid>
                <a:gridCol w="1066680"/>
                <a:gridCol w="3048120"/>
                <a:gridCol w="1523880"/>
              </a:tblGrid>
              <a:tr h="58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く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イタリ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.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ドイ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.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ブルガリア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フィンラン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Title 1"/>
          <p:cNvSpPr/>
          <p:nvPr/>
        </p:nvSpPr>
        <p:spPr>
          <a:xfrm>
            <a:off x="68400" y="5526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Q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３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. 60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才以上のおとしより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一番多い国はどこです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4"/>
          <p:cNvSpPr/>
          <p:nvPr/>
        </p:nvSpPr>
        <p:spPr>
          <a:xfrm>
            <a:off x="6043680" y="2362320"/>
            <a:ext cx="310032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トルコ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)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スイス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)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日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円/楕円 3"/>
          <p:cNvSpPr/>
          <p:nvPr/>
        </p:nvSpPr>
        <p:spPr>
          <a:xfrm>
            <a:off x="6005520" y="4976640"/>
            <a:ext cx="870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7"/>
          <p:cNvSpPr/>
          <p:nvPr/>
        </p:nvSpPr>
        <p:spPr>
          <a:xfrm>
            <a:off x="2819520" y="507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さいいじょ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7"/>
          <p:cNvSpPr/>
          <p:nvPr/>
        </p:nvSpPr>
        <p:spPr>
          <a:xfrm>
            <a:off x="1371600" y="9698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いちばんおお　　く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4"/>
          <p:cNvSpPr/>
          <p:nvPr/>
        </p:nvSpPr>
        <p:spPr>
          <a:xfrm>
            <a:off x="304920" y="1371600"/>
            <a:ext cx="259056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トルコ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)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スイス　 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)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日本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4"/>
          <p:cNvSpPr/>
          <p:nvPr/>
        </p:nvSpPr>
        <p:spPr>
          <a:xfrm>
            <a:off x="2666880" y="1371600"/>
            <a:ext cx="581508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　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.7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 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番目　　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.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1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番目　　　　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32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4:20:39Z</dcterms:created>
  <dc:creator>duangchai</dc:creator>
  <dc:description/>
  <dc:language>en-US</dc:language>
  <cp:lastModifiedBy>Prapa Saenthougsuk</cp:lastModifiedBy>
  <dcterms:modified xsi:type="dcterms:W3CDTF">2019-04-10T02:59:28Z</dcterms:modified>
  <cp:revision>237</cp:revision>
  <dc:subject/>
  <dc:title>Love Care Share</dc:title>
</cp:coreProperties>
</file>